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dt" idx="1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9/24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71F10-A642-40F9-B6BE-33C6A0E97A3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9/24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30808-F225-4D46-9B61-A5FBA008F61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9/24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EF39D-E196-4D7F-83D2-2309A2A0070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illusions aren’t literature, but they still embody the same philosophy. (There is no right or wrong answer, it’s all based on your own point of view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9/24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46EAB-C6A4-407C-9BD3-A907C541D05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senblatt: avoid imposing “any preconceived notio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9/24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30226-DAA7-493E-AC21-005B2DA9362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9/24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643A6-0F2A-4E9D-9368-BCF26B67C06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9/24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2FFFD-6EA4-427B-9AEB-BEDDF56566E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9/24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9FCAA-020C-4129-8E9F-3F458FC58CA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is mean? What is its significance? What could the wheelbarrow represent? What does the rainwater represent? What doe the chickens re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m by William Carlos Williams, considered his master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9/24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14410-F255-4A00-BA1D-298F7540E7B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1" marL="638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reader takes clues and information given to him by the author, interprets them on his own to create the work’s mean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8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ree falls in forest” Dile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easant Analogy in Freire’s “Banking Concept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9/24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51F05-AD76-4ADA-A1E7-8171DAE5271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ersonal relationship because you yourself are giving the literature mea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9/24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E0CDF-A491-484D-AD0F-E6E15E6BF8E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think the signficance of this event/character/symbol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typical plot-analyzing questions, but apply them t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r 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terpre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I feel the protagonist feeling after this ev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think drove the antagonist to act in that mann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happen if the main character d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is character motivated to assist the protagonist? Do they have an ulterior mot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goal of the antagoni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he antagonist fall or have a change of heart? Does the antagonist have a chance to succe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A743F7-982B-45DD-AAA6-00C76D288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9/24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287EE-5781-4387-8255-05D630AE8D2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ing Fact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Date Placeholder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9/24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Slide Number Placeholder 4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2BD7A-169F-4BB0-9890-B69086646EE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9/24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6E200-4949-4D73-B2FB-A25E9EBFB18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9/24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725EF-77DD-4F7C-AC9D-617A9356CCE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A9938-230D-4CAF-A66E-6C1F1D2473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D00E-025E-43D1-93D2-4A8EC5AC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89289-E12C-4E61-9855-308F1817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F997E-D009-43E1-9F10-3CC3A7B277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4C65E-FC13-45C5-8AAF-744D1B7C80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294E9-D40D-49B0-808D-56A8922F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89682-CEE5-4EE4-9452-7B818DF8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AAB48-AC54-489A-A96A-AF7FB5C4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8ECBD-956D-4E9E-B10A-2021E4D6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804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05C37-FD17-4E17-8080-83357CA5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8366C-1DC2-48F0-AEA7-9ECCB634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4C6A-F7EF-4DB3-8699-4C1EAC7E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C935A-96E9-4288-9EE5-E24C5767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CC1E6-A40F-4976-AFF2-A0F1CDDF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715C0-0341-41C6-A239-63072AC9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79B0E-0E12-431E-B7B9-40BE8ED9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24FFA-50AD-40A0-8E79-508D6ED8CE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7034-69DB-4A7E-9FD5-21CA06E422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50E2-86DB-458B-AFE8-399DACFA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B5F4-9157-45C9-A3F4-DAD7E1E6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0E52-E242-4893-A91B-B4791DD9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A7A1-D5BE-4067-8352-5A5C3939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E98EC-550E-4332-95E3-CCDDE1A9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804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0B15-AAF5-4E00-B9BC-790BA43C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B2EF-458E-43B7-96D3-F631E12F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A864-0FD1-47FB-9F61-F44C6CA3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DC78-76E6-49BF-8CE7-F630B670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1E2C-E530-4AA8-BA12-2E351168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9F40-774C-4CE9-81F2-7C9C8256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BCD7-6C91-4D9A-AAEC-6266A182A7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8548B3-7C25-4B05-802B-67DD0D20D8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8A055-6293-42A0-B0E3-196F8FFD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8DBD9-4379-46E7-9545-925852EB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7CD90-FD20-48E7-BEA9-EC577F23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507AA-4DCE-43D5-B81B-7A931917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7F1E29-A788-4308-8445-68AEF441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804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F8CA2-11D8-4C13-9B75-F2195FB4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4F1CA-8681-4F51-9B53-08D4DE5E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DF3A5-2235-41E4-A863-3824D1E6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4408D-7A0D-4112-8E67-5B63DBB9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803B8-1288-4C6A-8D17-AD99D32C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AB0A7-B501-47ED-BBE9-97CF2E00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DD435-0239-4253-BF8E-32051A8FDF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539BD1-DC23-4FF2-877B-7C998BB8AE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B5422-15E8-496D-BCB8-E8BDED94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643152-4667-46FC-80B7-EB2AAF4D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C59C68-424A-4B47-A456-77872BC9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3ACE89-9629-4BA1-B1DE-1A26829C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AC9BEB-833E-4452-8095-ABF9F37A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804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5300FD-6BF3-414B-82EC-4FFAB0F0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B37EDB-22F2-469A-B4E6-FA1063A0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A2DE3B-9F82-488E-918F-211BEFE1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66071B-C96C-4B12-9556-15A16592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F89639-F8D0-40DD-AE07-8E1CF9C9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27AED2-F9A8-4DBB-88DE-074E302C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804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88F19-97F8-4528-B0DA-E47F2CC5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23C88A-69B9-438C-845B-0D77178C1E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10D8C-65F5-4CBE-A832-031624CC59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B10D9-ED99-4649-BF60-C552CE43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18BCD-E9A5-4D64-9C4F-DE20EFE2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9E7BB-315E-43B6-B033-D97547FF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2F0B2-4F10-4734-A027-4A313972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804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6FEBA-8EE2-4360-AB7C-FFC7F1CD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30A2B-5A09-450E-814A-57FA33F3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9DD28-EE2E-44B4-89F5-736166E0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7C0E7-BFB7-49D6-9031-E9821B69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E2EC3-81D1-4694-AA99-22539752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A92DB-4D03-4E29-B201-676C57E8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CDFBB-7A49-416B-8C06-139D62B2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01F96-3365-4542-B5C4-0D9193A97F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89A8C-7ADF-48D7-9042-B40168E9DB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FF8BED-D377-445C-A20A-C895A8ED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B0FA24-EFD2-4234-80CD-020400E3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2E9CDA-6F84-4480-88DB-231F22F4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82BDB0-8811-465F-909F-6F201717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804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62FB69-D503-4C09-9B3F-D2251A6F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4DE62F-29B6-421E-92D4-84EBD126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99903-70DA-45B1-BFD3-0C3BB2BC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8205F7-927E-4A62-95D0-E7A0416D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5A3A0-4AE7-4CF2-8092-F89F4CE1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E7992B-C096-4058-9E85-C593BDF2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67016-6567-4DC0-BE66-CB388F0C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5C6C65-9E16-4B9E-B2F0-4D9653C75E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9F2FAF-6A03-407B-8F36-E71DE964E6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B090A8-84A3-403A-9219-5A50D692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4BFDEE-169E-4EBB-BE61-14465164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7549A0-1851-4B45-AF10-2FB57FEA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7CD713-D7DF-4AE4-861D-90425B29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704FB-51DD-4B42-B886-94B9301B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804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FE0C2C-C754-4FD2-9C16-D788A5B6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6A55B3-CA38-415B-BAA8-D6A6F363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433C54-90D3-4356-A825-A7E16977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ECC3F3-BE72-48EA-9731-C5493F63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898F14-953B-4939-A667-8677BEE4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069CE7-2431-4F5A-AD05-84DFA319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2575B4-E46A-4BF5-B464-111BAA8F4C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44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09/24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00640"/>
            <a:ext cx="5421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8896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39480"/>
            <a:ext cx="531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8F1B1-B7B8-4470-BC6C-7958874665D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6053040"/>
            <a:ext cx="224964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708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Arial Unicode MS"/>
              </a:rPr>
              <a:t>09/24/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4400" y="189000"/>
            <a:ext cx="5867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03ACA-F471-4F1B-9BBE-5C48E3043ADB}" type="slidenum">
              <a:rPr b="1" lang="en-US" sz="1400" spc="-1" strike="noStrike">
                <a:solidFill>
                  <a:srgbClr val="ebddc3"/>
                </a:solidFill>
                <a:latin typeface="Tw Cen MT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444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  <a:ea typeface="Arial Unicode MS"/>
              </a:rPr>
              <a:t>09/24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0" y="175068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1ED95-FE13-43EA-B79A-5066AFF6EA2E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09480" y="6200640"/>
            <a:ext cx="5421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8896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444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  <a:ea typeface="Arial Unicode MS"/>
              </a:rPr>
              <a:t>09/24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-360" y="1239480"/>
            <a:ext cx="531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915F7-3259-4EBE-BA04-60256C3EA785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00640"/>
            <a:ext cx="5421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8896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444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  <a:ea typeface="Arial Unicode MS"/>
              </a:rPr>
              <a:t>09/24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39480"/>
            <a:ext cx="531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80741-5857-4377-9408-2A22F359610B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00640"/>
            <a:ext cx="5421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1"/>
          </p:nvPr>
        </p:nvSpPr>
        <p:spPr>
          <a:xfrm>
            <a:off x="609444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  <a:ea typeface="Arial Unicode MS"/>
              </a:rPr>
              <a:t>09/24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09480" y="6200640"/>
            <a:ext cx="5421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2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A2025-7887-4885-9D24-5CF7C3217F4B}" type="slidenum">
              <a:rPr b="1" lang="en-US" sz="1400" spc="-1" strike="noStrike">
                <a:solidFill>
                  <a:srgbClr val="775f55"/>
                </a:solidFill>
                <a:latin typeface="Tw Cen MT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4664160"/>
            <a:ext cx="146376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447920" y="-936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  <a:ea typeface="Arial Unicode MS"/>
              </a:rPr>
              <a:t>09/24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4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61CAC-BAC7-4977-AEF4-565A43F1173E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1600200" y="6200640"/>
            <a:ext cx="4572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804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5"/>
          </p:nvPr>
        </p:nvSpPr>
        <p:spPr>
          <a:xfrm>
            <a:off x="655164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  <a:ea typeface="Arial Unicode MS"/>
              </a:rPr>
              <a:t>09/24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7200" y="6200640"/>
            <a:ext cx="5573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6"/>
          </p:nvPr>
        </p:nvSpPr>
        <p:spPr>
          <a:xfrm>
            <a:off x="6408360" y="-360"/>
            <a:ext cx="531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F1658-CB01-4873-A222-37FC0A1739CC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maniacworld.com/Spinning-Silhouette-Optical-Illusion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5kP6cDoIHRw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1447920" y="3886200"/>
            <a:ext cx="6476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WHAT DOES IT MEAN </a:t>
            </a:r>
            <a:br>
              <a:rPr sz="4400"/>
            </a:b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TO</a:t>
            </a:r>
            <a:r>
              <a:rPr b="0" i="1" lang="en-US" sz="4400" spc="-1" strike="noStrike">
                <a:solidFill>
                  <a:srgbClr val="ebddc3"/>
                </a:solidFill>
                <a:latin typeface="Tw Cen MT"/>
              </a:rPr>
              <a:t> you</a:t>
            </a: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2362320" y="604836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BY: ALEX, ISAAC, DANNY, AND CAR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2247840" y="6192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or Example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1157400" y="1905120"/>
            <a:ext cx="3109680" cy="427356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"/>
          <p:cNvSpPr/>
          <p:nvPr/>
        </p:nvSpPr>
        <p:spPr>
          <a:xfrm>
            <a:off x="4572000" y="35449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pinning Lady Optical Ill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or Example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22952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or Example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5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101840" cy="29084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3322080" y="542124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New Yor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7"/>
          <p:cNvSpPr/>
          <p:nvPr/>
        </p:nvSpPr>
        <p:spPr>
          <a:xfrm>
            <a:off x="5641200" y="22860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684360" y="40593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or Example..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973080" y="5334120"/>
            <a:ext cx="771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here the Wild Things 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3" descr=""/>
          <p:cNvPicPr/>
          <p:nvPr/>
        </p:nvPicPr>
        <p:blipFill>
          <a:blip r:embed="rId2"/>
          <a:stretch/>
        </p:blipFill>
        <p:spPr>
          <a:xfrm>
            <a:off x="2590920" y="1981080"/>
            <a:ext cx="3657600" cy="32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685800" y="1752480"/>
            <a:ext cx="7924680" cy="42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7520" indent="-31752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Reader Response Ppt Presentation."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STREAM Online PowerPoint Presentations and Slideshow Sharing. Web. 24 Sept. 2009. &lt;http://www.authorstream.com/Presentation/tccampa-137802-reader-response-literature-fiction-criticism-literary-education-ppt-powerpoint/&gt;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Reader-response criticism -." Wikipedia, the free encyclopedia. Web. 24 Sept. 2009. &lt;http://en.wikipedia.org/wiki/Reader_response_theory&gt;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VirtuaLit: Critical Approaches." Default. Web. 24 Sept. 2009. &lt;http://bcs.bedfordstmartins.com/Virtualit/poetry/critical_define/crit_reader.html&gt;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illiam Carlos Williams -." Poets.org - Poetry, Poems, Bios &amp; More. Web. 24 Sept. 2009. &lt;http://www.poets.org/poet.php/prmPID/119&gt;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YouTube - The President Reads "Where the Wild Things Are"" YouTube - Broadcast Yourself. Web. 24 Sept. 2009. &lt;http://www.youtube.com/watch?v=5kP6cDoIHRw&gt;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2"/>
          <p:cNvSpPr/>
          <p:nvPr/>
        </p:nvSpPr>
        <p:spPr>
          <a:xfrm>
            <a:off x="501840" y="304920"/>
            <a:ext cx="3469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115200" y="2286000"/>
            <a:ext cx="3714840" cy="32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lexibility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member, Do Not: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Font typeface="Wingdings 2" charset="2"/>
              <a:buChar char="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Ad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Font typeface="Wingdings 2" charset="2"/>
              <a:buChar char="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Chan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Font typeface="Wingdings 2" charset="2"/>
              <a:buChar char="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Igno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"/>
          <p:cNvSpPr/>
          <p:nvPr/>
        </p:nvSpPr>
        <p:spPr>
          <a:xfrm>
            <a:off x="2133720" y="2590920"/>
            <a:ext cx="1981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much depe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d whe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zed with r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ide the wh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cke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2"/>
          <p:cNvSpPr/>
          <p:nvPr/>
        </p:nvSpPr>
        <p:spPr>
          <a:xfrm>
            <a:off x="3243600" y="5486400"/>
            <a:ext cx="51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William Carlos William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ed Wheelbarr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ader Response The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612720" y="1600200"/>
            <a:ext cx="815328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ere can the true meaning of a work of literature be found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opl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Fis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Holl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Is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aning = Text + Reader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dvantages/Disadvanta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612720" y="1600200"/>
            <a:ext cx="81532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n lead to new perspectives/idea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ows for personal relationship to literatu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sy to misus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Add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Chang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Igno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Questions to Ask Your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8"/>
          <p:cNvSpPr/>
          <p:nvPr/>
        </p:nvSpPr>
        <p:spPr>
          <a:xfrm>
            <a:off x="990720" y="33526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What does this mean </a:t>
            </a:r>
            <a:r>
              <a:rPr b="0" i="1" lang="en-US" sz="4000" spc="-1" strike="noStrike">
                <a:solidFill>
                  <a:srgbClr val="262626"/>
                </a:solidFill>
                <a:latin typeface="Arial"/>
              </a:rPr>
              <a:t>to me</a:t>
            </a: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" descr=""/>
          <p:cNvPicPr/>
          <p:nvPr/>
        </p:nvPicPr>
        <p:blipFill>
          <a:blip r:embed="rId1"/>
          <a:stretch/>
        </p:blipFill>
        <p:spPr>
          <a:xfrm>
            <a:off x="4971960" y="31284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963720" y="228600"/>
            <a:ext cx="1371600" cy="2286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3"/>
          <a:stretch/>
        </p:blipFill>
        <p:spPr>
          <a:xfrm>
            <a:off x="2935440" y="29988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4"/>
          <a:stretch/>
        </p:blipFill>
        <p:spPr>
          <a:xfrm>
            <a:off x="2629080" y="2971800"/>
            <a:ext cx="1485720" cy="1440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"/>
          <p:cNvPicPr/>
          <p:nvPr/>
        </p:nvPicPr>
        <p:blipFill>
          <a:blip r:embed="rId5"/>
          <a:stretch/>
        </p:blipFill>
        <p:spPr>
          <a:xfrm>
            <a:off x="6991200" y="3429000"/>
            <a:ext cx="1009800" cy="1057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"/>
          <p:cNvPicPr/>
          <p:nvPr/>
        </p:nvPicPr>
        <p:blipFill>
          <a:blip r:embed="rId6"/>
          <a:stretch/>
        </p:blipFill>
        <p:spPr>
          <a:xfrm>
            <a:off x="1600200" y="51624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"/>
          <p:cNvPicPr/>
          <p:nvPr/>
        </p:nvPicPr>
        <p:blipFill>
          <a:blip r:embed="rId7"/>
          <a:stretch/>
        </p:blipFill>
        <p:spPr>
          <a:xfrm>
            <a:off x="3886200" y="4905360"/>
            <a:ext cx="1162080" cy="1266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"/>
          <p:cNvPicPr/>
          <p:nvPr/>
        </p:nvPicPr>
        <p:blipFill>
          <a:blip r:embed="rId8"/>
          <a:stretch/>
        </p:blipFill>
        <p:spPr>
          <a:xfrm>
            <a:off x="4800600" y="2971800"/>
            <a:ext cx="1181160" cy="1146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9" descr=""/>
          <p:cNvPicPr/>
          <p:nvPr/>
        </p:nvPicPr>
        <p:blipFill>
          <a:blip r:embed="rId9"/>
          <a:stretch/>
        </p:blipFill>
        <p:spPr>
          <a:xfrm>
            <a:off x="1123920" y="3657600"/>
            <a:ext cx="1390680" cy="1143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0" descr=""/>
          <p:cNvPicPr/>
          <p:nvPr/>
        </p:nvPicPr>
        <p:blipFill>
          <a:blip r:embed="rId10"/>
          <a:stretch/>
        </p:blipFill>
        <p:spPr>
          <a:xfrm>
            <a:off x="7004160" y="336600"/>
            <a:ext cx="1322280" cy="2057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"/>
          <p:cNvPicPr/>
          <p:nvPr/>
        </p:nvPicPr>
        <p:blipFill>
          <a:blip r:embed="rId11"/>
          <a:stretch/>
        </p:blipFill>
        <p:spPr>
          <a:xfrm>
            <a:off x="6400800" y="5057640"/>
            <a:ext cx="1114560" cy="11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2"/>
          <p:cNvSpPr/>
          <p:nvPr/>
        </p:nvSpPr>
        <p:spPr>
          <a:xfrm>
            <a:off x="717840" y="380880"/>
            <a:ext cx="2801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775f55"/>
                </a:solidFill>
                <a:latin typeface="Tw Cen MT"/>
              </a:rPr>
              <a:t>In Histor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3"/>
          <p:cNvSpPr/>
          <p:nvPr/>
        </p:nvSpPr>
        <p:spPr>
          <a:xfrm>
            <a:off x="-443880" y="2209680"/>
            <a:ext cx="117738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y was the key to the success of 5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century BC Greek Civilization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as Hitler a business genius? Why or why not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story not static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ny different Theories/Interpretation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 Math/Sc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612720" y="1863720"/>
            <a:ext cx="84582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s from Past Cla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612720" y="1600200"/>
            <a:ext cx="815328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glish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Symbolis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story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Cause and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th/Scienc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700"/>
              </a:spcBef>
              <a:buClr>
                <a:srgbClr val="94b6d2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Applying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4:59:59Z</dcterms:created>
  <dc:creator>acannon</dc:creator>
  <dc:description/>
  <dc:language>en-US</dc:language>
  <cp:lastModifiedBy>kschmidt</cp:lastModifiedBy>
  <dcterms:modified xsi:type="dcterms:W3CDTF">2009-09-24T18:17:21Z</dcterms:modified>
  <cp:revision>33</cp:revision>
  <dc:subject/>
  <dc:title>[Reader Response Theory]</dc:title>
</cp:coreProperties>
</file>